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E21-FC44-42C6-AD1D-5806A993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00E-6820-42B6-ADCC-73889E1E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23C-E845-460E-9574-F192F3C8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4EB-BFD7-4097-B9BF-DB8B66F6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256-93FB-44D9-B99B-9087962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77A-486B-440D-9280-7721A789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D55-8E0F-4365-8991-C734CE9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9A6-D91F-4FF9-A675-9D4D481D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23D-554B-46D8-83BC-0C2C3EE6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714-D7CB-46BC-AC44-4287F38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50E-88F7-4927-B881-F1E5837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330-9701-4F60-BE07-00E79191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9526-2E5F-40A9-B909-9191ABDEE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3348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52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73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3409800">
            <a:off x="-146880" y="-60840"/>
            <a:ext cx="5545080" cy="41022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594400">
            <a:off x="3983040" y="259920"/>
            <a:ext cx="5327640" cy="40258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69800">
            <a:off x="-612720" y="2924280"/>
            <a:ext cx="5327640" cy="463392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789600">
            <a:off x="4211280" y="3473280"/>
            <a:ext cx="5327640" cy="3988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866600">
            <a:off x="683280" y="14839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Franklin Gothic Demi"/>
              </a:rPr>
              <a:t>Parti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Franklin Gothic Demi"/>
              </a:rPr>
              <a:t>Construire le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237200">
            <a:off x="4933440" y="148392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Franklin Gothic Demi"/>
              </a:rPr>
              <a:t>Parti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Franklin Gothic Demi"/>
              </a:rPr>
              <a:t>Observer les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449400">
            <a:off x="467280" y="4581360"/>
            <a:ext cx="40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ranklin Gothic Demi"/>
              </a:rPr>
              <a:t>Parti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ranklin Gothic Demi"/>
              </a:rPr>
              <a:t>Observer les angles et les cô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676600">
            <a:off x="5112000" y="4868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Franklin Gothic Demi"/>
              </a:rPr>
              <a:t>Parti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Franklin Gothic Demi"/>
              </a:rPr>
              <a:t>Obserrver les cô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3348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8680" cy="409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2852640"/>
            <a:ext cx="77770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437000"/>
            <a:ext cx="75596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716280"/>
            <a:ext cx="75596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143000"/>
            <a:ext cx="84582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abri nous permettra de construire des formes géométriques et de faire des calculs à partir de nos co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ous utiliserons seulement quelques outils de base de Cabri pour ce f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l vous sera possible de faire des points, des lignes,  de calculer la mesure des segments, la mesures des aires, d’écrire des textes quelconques et même, calculer à l’aide d’une calculat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0880" y="3962520"/>
            <a:ext cx="614844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990720"/>
            <a:ext cx="7407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rebuchet MS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º    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Pour voir les outils contenus d’une boîte à outils, il faut effectuer un clic maintenu sur son icô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2º  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   Pour exporter un dessin, il faut encadrer ( rectangle de sélection ) la partie désirée à l'aide du pointeur, la copier     dans le presse-papiers et la coller dans le document où on veut l'intégr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( ex. Word..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3 º 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Pour avoir de l’aide af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créer une constr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rebuchet MS"/>
              </a:rPr>
              <a:t>appuyer sur F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19760" y="5334120"/>
            <a:ext cx="33242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11430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71640" y="3068640"/>
            <a:ext cx="788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ici un exemple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11430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3068640"/>
            <a:ext cx="788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e que vous aurez à faire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11430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955800"/>
            <a:ext cx="8137440" cy="564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155736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Partie A : Construction du tri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ites un triangle en utilisant la fonction « triangle » sur le troisième bou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mmez chacun des sommets du triangle en utilisant l’outil «nommer» dans la boîte d’affich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mmez (à l’aide de l’outil texte, cette fois)  les côtés du triang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entifiez les trois angles intérieurs du triangle en utilisant l’outil « marquer un angle » sur le dixième bout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culez la mesure de chacun des angles a l’aide de l’outil «  mesure d’angle » sur le neuvième bou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tenant, calculez chaque côté du triangle en utilisant « distance ou longueur »  toujours situé dans le neuvième menu.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71600" y="11430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1090440"/>
            <a:ext cx="7705800" cy="558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1844640"/>
            <a:ext cx="6842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Courier New"/>
              </a:rPr>
              <a:t>Partie A : Construction du tri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Pour éviter de se mélanger avec tous ces nombres, éditez les à l’aide de l’outil « texte ». Cliquez sur chaque nombre et inscrire ce qu’il signif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Vous pouvez également mettre en couleur chaque angle avec le côté et les mesures correspondantes. De cette façon, votre schéma semblera plus clair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urier New"/>
              </a:rPr>
              <a:t>Afin de s’assurer que le schéma est bien fait, bougez un sommet du triangle. En le bougeant, toutes les mesures devraient chan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71600" y="11430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705800" cy="558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75610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28:52Z</dcterms:created>
  <dc:creator>Caroline Majeau</dc:creator>
  <dc:description/>
  <dc:language>en-US</dc:language>
  <cp:lastModifiedBy>Caroline Majean</cp:lastModifiedBy>
  <dcterms:modified xsi:type="dcterms:W3CDTF">2008-11-25T18:58:38Z</dcterms:modified>
  <cp:revision>5</cp:revision>
  <dc:subject/>
  <dc:title>Présentation PowerPoint</dc:title>
</cp:coreProperties>
</file>